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18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ХИБИТОРИ СИНТЕЗЕ ПРОТЕИ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ЛФОНАМИДИ, ХИНОЛОНИ, УРОАНТИСЕПТИЦИ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2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. др Наташа Ђорђ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усидинска кисе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ханизам дејств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ечавање синтезе проте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ктериоста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дик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њуктивитис, дерматит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 приме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окално, орално или интрамускула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етљиви микроорганиз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-3427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ћином Gram+ бактерије, укључујући метицилин- резистентни Staphylococcus и неке анаероб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рмакокинет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=22-91%, вазивање за протине плазме 99%,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5-6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жељена деј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штећење јетре, ирит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акрол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истентни микроорганиз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ећина Gram- бактерија (сем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ordetella pertussi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 Haemophilus influenza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рмакокинет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псорпција варијабил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продиру хематоенцефалну баријеру, метаболишу се у јетри, елиминишу већином преко жучи, улазе у ентерохепатичну рециркулацију,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2h-2 д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жељена деј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чнина, повраћање, прол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олестатски хепатит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рг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рак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хибирају метаболизам преко цитохрома 3А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дужавају QT интерв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етол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ници: телитромиц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ханизам дејств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ечавање синтезе протеина инхибицијом 30с и 50с субјединица рибозо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ик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нболничка пнеумонија, егзацербација синузитиса или ХОБ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чин приме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а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етљиви микроорганиз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лики број Gram- и Gram+ бактерија, укључујући B. pertussis, H. influenzae, H.r pylori, M. catarrhalis, M. pneumoniae, C. pneumoniae, Legionella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етол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истентни микроорганиз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inetobacter, Enterobacteriaceae, Pseudom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рмакокинет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=87%,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1-3h, везује се за протеине плазме до 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d=3 l/kg, метаболише се у јетри, елиминише већином путем жучи,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2-3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жељена деј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ритмије, оштећење јетре, поремећај акомодације ока, псеудомембранозни колит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индик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ијастенија гравис, продужени QT-интервал, трудноћа и лакт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рак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дужава QT-интервал, инхибира CYP3А4, 2D6 и П-гликопроте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тенцира дејство ергот алкалоида и оралних антикоагулана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инкозам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ници: клиндамицин, линкомиц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ханизам дејств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пречавање синтезе протеина инхибицијом 50с субјединице рибозо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ктериостати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дик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наеробне инфекције у абдомену и малој карлици, апсцес плућа, периодонталне и фарингеалне инфекције, стафилококни остеомијелитис и артрит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 приме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ално и парентерал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етљиви микроорганиз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наеробне Gram- бактерије, укључујући Bacteroides и Actinomy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еробне Gram+ бактерије, укључујући стрептококе и стафилоко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инкозам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истентни микроорганиз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eudomonas, Legionella, Haemophilus influenzae, Moraxe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тицилин- резистентни Staphylococ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рмакокинет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=90%,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1-3h, везују се за протеине плазме до 95%, Vd=3 l/kg, не продиру хематоенцефалну баријер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етаболишу се у јетри, елиминишу путем жучи и урина,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2-5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жељена деј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сеудомембранозни колитис, бол у стомаку, повраћање, поремећај крвних лоза, хипотензија, алерг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индик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рудноћа и дојење (линкомиц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рак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ећава се ефекат неуромишићних блокатора, варфарина и дигоксина, смањује се ефекат живих вакцина и неких хорм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ксазолидин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армакокинет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=100%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-2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зују се за протеине плазме 31%, Vd=3 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аболишу се у јет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лиминишу путем жучи и урина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,5-5,5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жељена деј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штећење крвних лоза, перферна неуропатија, ретинопат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ак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або инхибирају МАО (потенцирају ефекат неких антихипертензи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лорамфеник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ханизам дејств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ечавање синтезе протеина инхибицијом 50с субјединице рибозо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ктериоста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ик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истентне инфекције осетљивим бактеријама: абдоминални тифус, менингитис, апсцес мозга, тешке анаеробне инфе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чин приме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ално, интравенски и лока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етљиви микроорганиз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оро све Gram- и Gram+ бактерије, анаероби, рикеције, микопла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истентни микроорганиз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ламидије (потпомаже раст!), Pseudomonas, Staphylococcus aur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лорамфеник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рмакокинет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=80%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зује се за протеине плазме 50%, продире хематоенцефалну баријеру, метаболише се глукуронидациј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иминише се урином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,5-3,5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жељена деј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штећење крвних лоза, укључујући апластичну анемију и панцитопенију (дозно зависна, знатно ређе идиосинкратс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ндром сиве бебе (“Gray Syndrom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траиндик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удноћа, лактација, новорођенч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рак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нергизам са лековима који оштећују крвне л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ептограм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ontent Placeholder 2"/>
          <p:cNvSpPr/>
          <p:nvPr/>
        </p:nvSpPr>
        <p:spPr>
          <a:xfrm>
            <a:off x="457200" y="2214720"/>
            <a:ext cx="82296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редставници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ептограмин А (далфопристин)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треп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ограмин Б (квинупристи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ханизам дејств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ечавање синтезе протеина инхибицијом 50с субјединице рибозо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ктерициди (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ојединачно су бактериостатиц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Индика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резистентн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фекциј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трептококом, пнеумококом, стафилококом и Е. faec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Начин примен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интравенски, заједно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 односу 70 :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Осетљиви микроорганизм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m+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бактерије, укључујући и неке мултирезистентне, као што је ванкомицин-резистентн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ococcus faec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ханизми дејства антибио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речавање синтезе ћелијског з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бета лактами, гликопептиди, бацитрацин, фосфомицин, етамбутол, изониази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штећење ћелијске мемб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олимиксини, даптомици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речавање синтезе нуклеинских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спречавање синтезе есенцијалних метаболи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сулфонамиди, триметоприм, дапсо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спречавање репликације и транскрипциј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инхибиција ДНК гиразе (топоизомеразе)/оштећење ДН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65120" indent="-3427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хинолони, метронидазо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инхибиција РНК полимераз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65120" indent="-3427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рифампици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2020"/>
                </a:solidFill>
                <a:latin typeface="Arial"/>
              </a:rPr>
              <a:t>Спречавање синтезе проте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02020"/>
                </a:solidFill>
                <a:latin typeface="Arial"/>
              </a:rPr>
              <a:t>инхибиција 30с субјединице рибозо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02020"/>
                </a:solidFill>
                <a:latin typeface="Arial"/>
              </a:rPr>
              <a:t>тетрациклини, глицинциклини, аминогликозиди, спектиномицин, фусидинска киселин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02020"/>
                </a:solidFill>
                <a:latin typeface="Arial"/>
              </a:rPr>
              <a:t>инхибиција 50с субјединице рибозо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202020"/>
                </a:solidFill>
                <a:latin typeface="Arial"/>
              </a:rPr>
              <a:t>макролиди, кетолиди, линкозамиди, оксазолидинони, хлорамфеникол, стрептограмин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ептограм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457200" y="2138400"/>
            <a:ext cx="82296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езистентни микроорганиз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ococcus faecal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армакокинет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: 0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24/0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 l/kg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умерено се везују за протеине плаз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етаболишу се у јетри, елиминишу претежно путем жуч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1-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жељена деј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олови у мишићима и зглобовима, флебитис, главобо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терак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хибирају метаболизам прек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P3А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дужавај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T-интер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улфонам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609480" y="2138400"/>
            <a:ext cx="822960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едставниц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лфисоксазол, сулфадиазин, сулфадимидин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улфаметоксазол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(краткоделују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рзо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псорбују и брзо излучују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лфасалазин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або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псорбуј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з дигестивног тракт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лфацетамид, мафенид, сребро-сулфадиазин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(за локалну примен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лфадоксин, сулфадиметоксин, сулфаметоксипиридазин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улфаметоксидиазин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(дугоделују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рзо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псорбују а споро излучују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бинација триметоприма и сулфаметоксазол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ri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еханизам деј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спречавају синтезу фо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бактериостат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улфонам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ontent Placeholder 2"/>
          <p:cNvSpPr/>
          <p:nvPr/>
        </p:nvSpPr>
        <p:spPr>
          <a:xfrm>
            <a:off x="539640" y="2340000"/>
            <a:ext cx="822960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Индика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ринарне и респираторне инфекције, трбушни тифус, рецидив реуматске грознице (профилакса), опекот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Начин примен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Arial"/>
              </a:rPr>
              <a:t>орално, локално, парентерално (само сулфадиази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Осетљиви микроорганизм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рептокок, пнеумокок, Haemophilus influenzae, H. Dycrei, Nocardia, Actinomyces</a:t>
            </a:r>
            <a:r>
              <a:rPr b="0" lang="sr-R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хламидиј</a:t>
            </a:r>
            <a:r>
              <a:rPr b="0" lang="sr-RS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Фармакокинети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Arial"/>
              </a:rPr>
              <a:t>варијабилна, продиру хематоенцефалну баријер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Нежељена дејств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отосензибилизациј</a:t>
            </a:r>
            <a:r>
              <a:rPr b="0" lang="sr-RS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ексфолијативни дерматитис</a:t>
            </a:r>
            <a:r>
              <a:rPr b="0" lang="sr-R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тивенс-Џонсонов синдром</a:t>
            </a:r>
            <a:r>
              <a:rPr b="0" lang="sr-R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гранулоцитоза, анемија</a:t>
            </a:r>
            <a:r>
              <a:rPr b="0" lang="sr-R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фротоксич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Контраиндика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800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цa млађa од 12 година, трудноћa, лактациј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инол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ниц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флуорирани хинолони (налидиксинска и пипемидна киселина, еноксац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луорирани (ципрофлоксацин, олфлоксацин, левофлоксацин, моксифлоксацин, норфлоксац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ханизам деј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хибиција ДНК гиразе; бактериц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ик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флуорирани и норфлоксацин: само уринарне инфе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луорирани: инфекције већине ткива и орг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етљиви микроорганиз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. coli, Salmonellae, Shigellae, Enterobacter, Campylobacter, Neisseria, хламидије, микоплазме, бруцеле, легионеле и микобактер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истентни микроорганиз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ероби; развој резистенције код осетљивих могу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инол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рмакокинети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бра апсорпција, биорасположивост и дистрибуција у ткива сем у мозак и кости,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1,5-16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або се метаболишу, елиминишу већином путем у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жељена дејств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астроинтестиналне тегобе, поремећаји на нивоу ЦНС-а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дужење QT интервала, руптура тет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индикациј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рудноћа, лактација, деца млађа од 17 година, стари, кардиолошки болесни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ракциј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ећавају ниво варфарина, кофеина, циклоспо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ећавају ризик од продужења QT интервала, стимулације ЦНС-а, хипо- или хипергликем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, Mg, Fe и Al им смањују апсорпц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роантисеп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тибиотици који се користе за лечење уринарних инфе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центришу се у урину, у осталим органима не постижу довољну концентр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ставниц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флуорирани хинолони (пипемидна киселина: Palin®, Pipegal®, Pipem®) и норфлоксацин (Nolicin®,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Uricin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еламин мандел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троксо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трофуранто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сфомицин (Monural®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осфомиц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ханизам деј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речавање синтезе ћелијског зи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дик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кутне некомпликоване инфекције доњих мокраћних ка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филакса код хируршких захвата на доњим мокраћним канал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етљиви микроорганиз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m+ и Gram- бактерије, укључујући E. coli, Citrobacter, Klebsiella, Proteus mirabilis, Staphylococcus, Enterococcus faecalis, Pseudom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истентни микроорганиз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ке врсте Proteus-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вој резистенције могућ, мање у киселој сред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рмакокинети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бра апсорпција,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2h и 6-10h (ентерохепатична рециркулација), дистрибуција у бубреге, зид мокраћне бешике и простату, елиминација већином преко бубрега,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4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осфомиц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жељена деј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улвовагинитис, главобоља, мучнина и повраћање, кол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раиндикациј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ца млађа од 12 година, тешко оштећење бубрега, хемодија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акциј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токлопрамид смањује обим апсорпције фосфом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рана смањује брзину апсорпције фосфом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трацик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редставниц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кратко-делујући (тетрациклин,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хлортетрациклин, окситетрациклин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редње-делујући (демеклоциклин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етацикли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уго-делујући (доксициклин, миноцикли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еханизам дејств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пречавање синтезе протеина инхибицијом 30с субјединице рибозо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актериостатиц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ндик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пнеумоније узрокованих микоплазмама, инфекције гениталних органа узрокованих хламидијама, тежи облици акни, ерадикација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elicobacter pylori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, пегави тифус,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-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грозниц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ачин приме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орално и парентерал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сетљиви микроорганиз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већина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ram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+ и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ram</a:t>
            </a: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- бактерија, укључујући рикеције, хламидије, микоплазме, спирохет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трацик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езистентни микроорганиз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eudomonas aeruginosa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us spp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; неке стрепток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развој резистенције (неколико механиза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армакокинет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=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30-10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2-6 h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= 0,7–1,7 l/kg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жељена деј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чнина, повраћање, прол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сензибил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штећење јетре и бубр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понују се у костима и зубима – дисколорација и слабија отпор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нтраиндикациј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труднице и деца испод 8 год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терак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, Mg, Fe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смањују апсорп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лицинцик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ници: тигецик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ханизам дејств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ечавање синтезе протеина инхибицијом 30с субјединице рибоз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ктериоста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ик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пликоване интраабдоминалне и инфекције кож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пликоване ванболничке пнеумон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чин приме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равенски у инфуз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етљиви микроорганиз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ећина Gram+ и Gram- бактерија, укључујући анаероб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лицинцик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езистентни микроорганиз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eudomonas aeruginosa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us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армакокинет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d=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2,5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/kg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22-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 везује се за протеине плазме до 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нцентрише се у ткивима, не пролази хематоенцефалну бариј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етаболише се глукуронидацијом, елиминише већином путем жуч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=0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l/h/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жељена деј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чнина, повраћање, прол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штећење јетре и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анкре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нтраиндикациј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трудни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,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тешко оштећење јетре или панкре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терак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живе вакцине (повећава ризик од инфекциј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успорава елиминацију варф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миногликоз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ставниц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тамицин, амикацин, стрептомицин, тобрамицин, канамицин, нетилмицин, неомиц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ханизам дејств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ечавање синтезе протеина инхибицијом 30с субјединице рибоз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оштећење ћелијске мемб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ктерици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ик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екције уринарног тракта, абдоминалне инфекције, ендокардитис, туберкул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чин приме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рентерално, у што мање дневних доза (тзв. пост-антибиотски ефека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кал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миногликоз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сетљиви микроорганиз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бацил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phylococcus aureus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phylococcus epidermi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Резистентни микроорганиз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наеро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5160" indent="-34272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Arial"/>
              </a:rPr>
              <a:t>развој резистенције (ензимски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армакокинет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лабо продиру хематоенцефалну баријеру, дистрибуција екстрацелула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елиминација преко бубрега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2-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жељена деј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тотоксичност, нефротоксич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нтраиндикациј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трудноћа, мијастенија грав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терак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отенцирају дејство неуромишићних блока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пектиномиц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ханизам дејств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ечавање синтезе протеина инхибицијом 30с субјединице рибозо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ктериостат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дик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компликована гоноре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 приме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трамускуларно у једној до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етљиви микроорганиз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m- бактер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рмакокинет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псорпција комплетна,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1-30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жељена деј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саница, грозница, мучнина, уртикар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7-09-14T22:00:59Z</dcterms:modified>
  <cp:revision>7</cp:revision>
  <dc:subject/>
  <dc:title>Slide 1</dc:title>
</cp:coreProperties>
</file>